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40E2-34ED-4DB2-BCA3-8891CC66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9ABB-F429-4C48-ABFB-DBEA4A40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6498-6159-427F-8461-C11E7180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6886-5B5B-46C6-8B92-87C0E5E8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D829-3663-4BFC-9452-51540C5B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4835-3E4D-4F21-BB68-1D1EB4CB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3CE4-8245-4E23-BCA0-157D9786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1995-A617-4175-8E17-4DD34F60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F6E8-8860-4DB4-A83E-568FEC35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A9D2-A848-40B1-9646-68C8E2FD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FA94-3450-48ED-8F7E-47234E6B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55CB-5F1C-4739-A533-49D74475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AD82-0B08-4DD4-801C-8CF9AD5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A500-2E7A-4FA1-81E2-FDA7562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6752-E7CD-4882-83FA-0FC75B5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A8E7-3FCA-438A-A743-2B130AA7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18CD-726A-46A4-BCC1-98646BFF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84B7-5314-47B1-8C9F-E66879F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5102-E74C-4B49-B0AE-83246D9C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1CF1-3967-4A2B-BFDC-4B983483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2295-9A76-47B9-9218-FF2A5F0A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20A8-F35F-4FBF-8B48-747A1D0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56F1-29BA-4452-864E-30AFAD15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30C4-E0BB-407D-8019-76F592A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5FDB-8DDD-410F-A83E-C60C8C58A9C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29AF-29DF-4BA7-80D7-34C78298922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110240"/>
            <a:ext cx="914400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1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842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ветла е зората в Господни</a:t>
            </a:r>
            <a:r>
              <a:rPr b="1" lang="be-BY" sz="3800" spc="-1" strike="noStrike">
                <a:solidFill>
                  <a:srgbClr val="ffffff"/>
                </a:solidFill>
                <a:latin typeface="Arial"/>
                <a:ea typeface="Arial"/>
              </a:rPr>
              <a:t>й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ден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от небето е той позлатен;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чезнат тъмни сенки, щом се Бог яви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воя ден благослови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997200"/>
            <a:ext cx="9325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Той е ден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на покой,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вят е той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а и през вечно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444680"/>
            <a:ext cx="91440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ак изминаха шестте работни дни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 труд и грижа бяха те изпълнени;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ак огря ни радост в тоз почивен ден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Богу славно посветен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997200"/>
            <a:ext cx="9325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Той е ден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на покой,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вят е той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а и през вечно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137600"/>
            <a:ext cx="93250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ека днес тъй мине съботния ден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ека тъй да бъде от нас осветен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че накрая друга стъпка по-напред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тигнем д</a:t>
            </a:r>
            <a:r>
              <a:rPr b="1" lang="be-BY" sz="38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небесний свят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997200"/>
            <a:ext cx="9325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Той е ден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на покой,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вят е той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а и през вечно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0-09T06:35:20Z</dcterms:modified>
  <cp:revision>19</cp:revision>
  <dc:subject/>
  <dc:title>Slide 1</dc:title>
</cp:coreProperties>
</file>